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8B83-3F11-42A3-9547-EA0F02EA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569C-B51B-4C28-9005-79B9EB02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70CF-D5B2-4827-A3FE-7FAF5379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8C0A-48DD-4CF2-BE83-625B0451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00DC-2BF8-48E9-8356-278F95FE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3AE9-AD3A-4E98-8320-BBB3D12F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D6AC-F553-4497-A1D6-56F1ED89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5333-A9FD-4BA6-BE8E-6DFA43CB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D893-C07D-40FD-B8C5-5C033242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6994-A967-486D-9CF0-713D0129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18D1-FFA7-493B-905F-F18D352A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FDDF-3F54-4CF3-A6F9-4FC8DB97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4473-444C-4546-8F30-2F6F9634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96C3-FAAD-4E97-9DC6-7C3DA24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D98A-6C66-419B-BD84-2B3B29A9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44A9-8DD1-455A-8B7D-0C3195B0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79F8-7AB8-485C-8F4D-F72540E9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1E65-9D2D-4E77-80E1-3F5C81E3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D563-B205-4E61-8F94-8D0C3C0E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59C5-C270-4E0D-A773-957EEE1D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FF89-475C-4EDA-9E4D-D4E9FD74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C567-8BD5-49E8-AA77-3F6C8778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C7B4-2192-4843-8C95-7C6E23A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E01A-DA87-40B2-BBD1-F4A7BFBE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CC69-D507-4E56-920C-BC4984D30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7BA9-4D73-41BE-BF19-E0571A61E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JROppenheimer-LosAlamos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Trinity_Test_Fireball_16ms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at_man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en.wikipedia.org/wiki/File:Little_boy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he End of World War II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ping the B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S Missour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Picture 5" descr="File:Douglas MacArthur signs formal surrender.jpg"/>
          <p:cNvPicPr/>
          <p:nvPr/>
        </p:nvPicPr>
        <p:blipFill>
          <a:blip r:embed="rId1"/>
          <a:stretch/>
        </p:blipFill>
        <p:spPr>
          <a:xfrm>
            <a:off x="1295280" y="1219320"/>
            <a:ext cx="6340680" cy="45338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7"/>
          <p:cNvSpPr/>
          <p:nvPr/>
        </p:nvSpPr>
        <p:spPr>
          <a:xfrm>
            <a:off x="1371600" y="60958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uglas Macarthur at the Peace Treaty Signing in Jap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Manhattan Proje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fear that the Nazi’s would develop and use an atomic bomb on the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30 sites across the country that were working on development of a nuclear device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testing location was Los Alamos, New Mex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ead Scientists/Engine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rt Oppenhe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the lead researcher for the development of the atomic bo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 creation of it he worked hard against the use of it in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" descr="Head and shoulders portra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752480"/>
            <a:ext cx="299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inity Te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nity was the code name for the final test of the atomic bomb in New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5" descr="Trinity Test Fireball 16m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981080"/>
            <a:ext cx="37335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t Man and Little Bo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5" descr="Fat m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905120"/>
            <a:ext cx="3175200" cy="210816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"/>
          <p:cNvSpPr/>
          <p:nvPr/>
        </p:nvSpPr>
        <p:spPr>
          <a:xfrm>
            <a:off x="129528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t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9" descr="Little bo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676520"/>
            <a:ext cx="3809880" cy="250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1"/>
          <p:cNvSpPr/>
          <p:nvPr/>
        </p:nvSpPr>
        <p:spPr>
          <a:xfrm>
            <a:off x="57150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B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ola Ga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29 Super Fortress Piloted by Paul Tibbits.  It was named after his mother.  It dropped “Little Boy” on Hir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400px-050607-F-1234P-090"/>
          <p:cNvPicPr/>
          <p:nvPr/>
        </p:nvPicPr>
        <p:blipFill>
          <a:blip r:embed="rId2"/>
          <a:stretch/>
        </p:blipFill>
        <p:spPr>
          <a:xfrm>
            <a:off x="914400" y="3352680"/>
            <a:ext cx="7238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roshim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Boy explodes and destroys 70% of Hiroshima, causing 90,000 immediate deaths and as many as 166,000 within the first four months after the bomb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9" descr="File:AtomicEffects-Hiroshima.jpg"/>
          <p:cNvPicPr/>
          <p:nvPr/>
        </p:nvPicPr>
        <p:blipFill>
          <a:blip r:embed="rId2"/>
          <a:stretch/>
        </p:blipFill>
        <p:spPr>
          <a:xfrm>
            <a:off x="4114800" y="1523880"/>
            <a:ext cx="480060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gasak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the bomb was to be dropped on Kokura, Japan.  Cloud cover redirected the plane to Nagasa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 Man was dropped on Nagasaki, Japan killing almost 80,000.  It missed it’s target by 2 m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200px-Nagasakibomb"/>
          <p:cNvPicPr/>
          <p:nvPr/>
        </p:nvPicPr>
        <p:blipFill>
          <a:blip r:embed="rId3"/>
          <a:stretch/>
        </p:blipFill>
        <p:spPr>
          <a:xfrm>
            <a:off x="5410080" y="1676520"/>
            <a:ext cx="3316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reats of continued use of atomic weapons on Japanese c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days later the Japanese government accepted an unconditional surrender ending World War 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23:16:06Z</dcterms:created>
  <dc:creator>Gritman</dc:creator>
  <dc:description/>
  <dc:language>en-US</dc:language>
  <cp:lastModifiedBy>Sacerdote, Kevin R.</cp:lastModifiedBy>
  <dcterms:modified xsi:type="dcterms:W3CDTF">2017-02-07T17:13:14Z</dcterms:modified>
  <cp:revision>2</cp:revision>
  <dc:subject/>
  <dc:title>The End of World War II</dc:title>
</cp:coreProperties>
</file>